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BC5A-9395-4850-9655-56663DE1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723-1133-49F8-8842-5AADC7E1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D68A-1B70-47C5-9D40-9521ED86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169-D7E5-4C50-9CC4-AE3E09A1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D5ED-2F1A-42AF-8722-EFA61E55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11C-FDF1-480A-B26C-F8D13DBD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1965-595C-4DC7-A3A0-6AC0BDD5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94E-9B6F-485C-ADF5-B535746F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F09-63B8-4F01-B26E-78A5A113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C74F-A8CD-4379-9A5F-5572A1E2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443-91F9-4E6A-AE3C-DC7F8B45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138-CE80-4BE5-87DA-21E2B938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464C-F57D-4357-ACE1-43831182FF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Ana Nina\Desktop\Picture1.jpg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333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6000" spc="-1" strike="noStrike">
                <a:solidFill>
                  <a:srgbClr val="f79646"/>
                </a:solidFill>
                <a:latin typeface="Calibri"/>
              </a:rPr>
              <a:t>ТЕРМОТЕРАПИЈ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Тања Зечевић Лук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Терапијско</a:t>
            </a:r>
            <a:r>
              <a:rPr b="1" lang="sr-Latn-C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1" lang="sr-Latn-C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хиперемиј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бољш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ртеријс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енс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циркулаци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антиинфламаторно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ресорпциј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екстравазат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елиминациј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етаболит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јача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фагоцитоз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етаболичк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етаболиз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рофичк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бољш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схран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аналгетск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ол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иорелаксантн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паз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ш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већањ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дифузи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филтраци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роз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"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иолош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ембран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"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већањ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еластичности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езивног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кретљивост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глобови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сле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стегљивост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олаге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езивни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киви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искозност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иновијалн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чност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тимулација фагоцито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бактерицидно деј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диуретски 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пликова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умбалн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ел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овод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бољш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рокрвљеност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убрег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иурез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пазмолитичк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пликова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редњ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рбушн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и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словља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релаксациј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глатких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С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им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еристалти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даљене реа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сензуална реакција на супротном екстремите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188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јство на унутрашње органе преко кутивисцералних з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188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д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TA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ећање срчане фреквен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188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23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Топлота је најпопуларнији физикални модалитет у контроли бол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04760" y="3352320"/>
            <a:ext cx="6629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Постоје три теорије о механизму ублажавања бола топлотом.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Васкуларна теориј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Топлота изазива вазодилатацију, шт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d0a1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доводи до смањења исхемиј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d0a1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повећања оксигенације и нутриције ткив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d0a1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одстрањења метаболичких продуката који суделују у ноцицепциј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Контраиритирајућа теор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Се заснива на 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gate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 контролном механизму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d0a1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стимулацијом терморецептора прекида се у задњем рогу пренос импулса за бол ка вишим центри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Трећа теор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  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Директан утицај топлоте на      неуромишићна вретена и на смањење мишићног спазма,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прекида зачарани круг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бол – мишићни спазам – б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a10"/>
                </a:solidFill>
                <a:latin typeface="Verdana"/>
              </a:rPr>
              <a:t>1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ПАРАФИНО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52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обиј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рерадом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нафт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мрког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угљ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мес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исоко</a:t>
            </a: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олекуларног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гљоводони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обној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емператур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чврстом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тању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облику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ристал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беличаст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мас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опи се у казанима са двоструким д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ачк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опљењ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45º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арафински каз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kazan za parafin"/>
          <p:cNvPicPr/>
          <p:nvPr/>
        </p:nvPicPr>
        <p:blipFill>
          <a:blip r:embed="rId1"/>
          <a:stretch/>
        </p:blipFill>
        <p:spPr>
          <a:xfrm>
            <a:off x="2666880" y="1981080"/>
            <a:ext cx="3733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Одлике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712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велики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плотни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капаците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ниск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плот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проводљивос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 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(ода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оплот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40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нута)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висок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индиферент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  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60º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)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компресивно дело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сле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ноје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међу ко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чврст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тва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анак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лој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аздух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сиће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оден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принос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аљој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азодилатациј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Начини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тапа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газ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ч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ноше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четк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лојеви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ебљи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1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2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ц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иц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арафинск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аск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римењу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рапијс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озметич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врх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орис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себног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онц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иж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мператур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р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пликациј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требн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штит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ч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ос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сн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ноше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мерзиј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тапа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лив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е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лу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аспршив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блик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Т</a:t>
            </a:r>
            <a:r>
              <a:rPr b="1" lang="en-US" sz="4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Е</a:t>
            </a:r>
            <a:r>
              <a:rPr b="1" lang="en-US" sz="4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Р</a:t>
            </a:r>
            <a:r>
              <a:rPr b="1" lang="en-US" sz="4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М</a:t>
            </a:r>
            <a:r>
              <a:rPr b="1" lang="en-US" sz="4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О</a:t>
            </a:r>
            <a:r>
              <a:rPr b="1" lang="en-US" sz="4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Т Е Р А П И Ј 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Област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ФМ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која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бави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терапијском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применом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топлоте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виду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307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3070d"/>
                </a:solidFill>
                <a:uFillTx/>
                <a:latin typeface="Calibri"/>
              </a:rPr>
              <a:t>загревања</a:t>
            </a:r>
            <a:r>
              <a:rPr b="0" lang="en-US" sz="2400" spc="-1" strike="noStrike" u="sng">
                <a:solidFill>
                  <a:srgbClr val="03070d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3070d"/>
                </a:solidFill>
                <a:uFillTx/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довођењем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топлоте</a:t>
            </a:r>
            <a:r>
              <a:rPr b="0" lang="sr-Latn-CS" sz="2400" spc="-1" strike="noStrike">
                <a:solidFill>
                  <a:srgbClr val="03070d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термотерапија</a:t>
            </a:r>
            <a:r>
              <a:rPr b="1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у</a:t>
            </a:r>
            <a:r>
              <a:rPr b="1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ужем</a:t>
            </a:r>
            <a:r>
              <a:rPr b="1" lang="sr-Latn-C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смислу</a:t>
            </a:r>
            <a:r>
              <a:rPr b="1" lang="sr-Latn-C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речи</a:t>
            </a:r>
            <a:r>
              <a:rPr b="0" lang="sr-Latn-C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(топла диферентна зона)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3070d"/>
                </a:solidFill>
                <a:uFillTx/>
                <a:latin typeface="Calibri"/>
              </a:rPr>
              <a:t>2. хлађења</a:t>
            </a:r>
            <a:r>
              <a:rPr b="0" lang="en-US" sz="2400" spc="-1" strike="noStrike" u="sng">
                <a:solidFill>
                  <a:srgbClr val="03070d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3070d"/>
                </a:solidFill>
                <a:uFillTx/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одузимањем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топлоте</a:t>
            </a:r>
            <a:r>
              <a:rPr b="0" lang="sr-Latn-C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(хладна диферентна зона) или</a:t>
            </a:r>
            <a:r>
              <a:rPr b="0" lang="sr-Latn-C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криотерап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арафинска ма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4" descr="C:\Documents and Settings\User\Desktop\parafinska maska.jpg"/>
          <p:cNvPicPr/>
          <p:nvPr/>
        </p:nvPicPr>
        <p:blipFill>
          <a:blip r:embed="rId1"/>
          <a:stretch/>
        </p:blipFill>
        <p:spPr>
          <a:xfrm>
            <a:off x="1905120" y="1523880"/>
            <a:ext cx="5105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мерзија (парафинска рукавиц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3" descr="Parafin imerz"/>
          <p:cNvPicPr/>
          <p:nvPr/>
        </p:nvPicPr>
        <p:blipFill>
          <a:blip r:embed="rId1"/>
          <a:srcRect l="27576" t="0" r="9395" b="27459"/>
          <a:stretch/>
        </p:blipFill>
        <p:spPr>
          <a:xfrm>
            <a:off x="2514600" y="1447920"/>
            <a:ext cx="3505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Паковања</a:t>
            </a:r>
            <a:r>
              <a:rPr b="0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парафин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rehab_1s"/>
          <p:cNvPicPr/>
          <p:nvPr/>
        </p:nvPicPr>
        <p:blipFill>
          <a:blip r:embed="rId1"/>
          <a:stretch/>
        </p:blipFill>
        <p:spPr>
          <a:xfrm>
            <a:off x="1330200" y="1143000"/>
            <a:ext cx="10319040" cy="22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DSCF0101"/>
          <p:cNvPicPr/>
          <p:nvPr/>
        </p:nvPicPr>
        <p:blipFill>
          <a:blip r:embed="rId2"/>
          <a:stretch/>
        </p:blipFill>
        <p:spPr>
          <a:xfrm>
            <a:off x="685800" y="2819520"/>
            <a:ext cx="3220920" cy="3558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114440" y="1371240"/>
            <a:ext cx="4800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виј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ливинилск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фолиј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фланелск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ск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брус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ћеб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уне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кани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(,,суво паковање,,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3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4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ину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завршетк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е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реб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нов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умот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уво паковање 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2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4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old pack"/>
          <p:cNvPicPr/>
          <p:nvPr/>
        </p:nvPicPr>
        <p:blipFill>
          <a:blip r:embed="rId1"/>
          <a:stretch/>
        </p:blipFill>
        <p:spPr>
          <a:xfrm>
            <a:off x="2133720" y="3048120"/>
            <a:ext cx="4495680" cy="20145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2514600" y="1219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това пак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2.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ПЕЛОИДО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Pelos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=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му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рганског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рекл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БИОЛИ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р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зер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уљ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рес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еорганског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рекл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БИОЛИ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нерал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улкан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ело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рмич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физич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вој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емијск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Начин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Parafango"/>
          <p:cNvPicPr/>
          <p:nvPr/>
        </p:nvPicPr>
        <p:blipFill>
          <a:blip r:embed="rId1"/>
          <a:stretch/>
        </p:blipFill>
        <p:spPr>
          <a:xfrm>
            <a:off x="914400" y="1600200"/>
            <a:ext cx="2417760" cy="2514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Parafango aplikacija3"/>
          <p:cNvPicPr/>
          <p:nvPr/>
        </p:nvPicPr>
        <p:blipFill>
          <a:blip r:embed="rId2"/>
          <a:stretch/>
        </p:blipFill>
        <p:spPr>
          <a:xfrm>
            <a:off x="609480" y="4200480"/>
            <a:ext cx="2847960" cy="2414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9880" y="914040"/>
            <a:ext cx="5105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1   увијањем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елоидно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аков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1.1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Локалне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аплик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ол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ав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ћеб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ластич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фолија и чаршав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грејан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елои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ебљин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5-6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ц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плику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л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ти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олесник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мота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мператур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42-45º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рем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рај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35-40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кон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кид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новн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аков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л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ез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елоид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сти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ремен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рај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врша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уширање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лаз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ла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од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36-37º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;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буч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мар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об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мор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30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40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1.2.Опште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апликације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ео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ретк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римењуј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ер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ак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птерећуј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рганиза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рочит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ВС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Начин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d0a10"/>
                </a:solidFill>
                <a:latin typeface="Calibri"/>
              </a:rPr>
              <a:t>2.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Општа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купка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еш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ералн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орск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бичн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нос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1:3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:1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ог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би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уст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т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имењуј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пшт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уп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лукуп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окал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уп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Т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= 39º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рем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кида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ушира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опл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6-37º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ти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мор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0-4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Механизам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дејства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пелои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топлотно</a:t>
            </a:r>
            <a:r>
              <a:rPr b="0" lang="en-US" sz="3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механичко</a:t>
            </a:r>
            <a:r>
              <a:rPr b="0" lang="en-US" sz="3000" spc="-1" strike="noStrike">
                <a:solidFill>
                  <a:srgbClr val="0d0a1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хемијско</a:t>
            </a:r>
            <a:r>
              <a:rPr b="0" lang="en-US" sz="3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дејств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хемијске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материје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сумпор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-</a:t>
            </a: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водоник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угљен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диоксид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радон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24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јони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en-US" sz="21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биолошки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активне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матер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ензими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хормони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и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д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з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елоид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елаз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рганиза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роз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ож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спољавајућ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фармакодинамск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дејств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3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ПАРАФАНГО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Мешави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лековитог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блат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вулканског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орекл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ФАНГО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чим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обиј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хомогенизова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фино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гранулиса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мес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Апликуј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 50º</a:t>
            </a:r>
            <a:r>
              <a:rPr b="1" lang="sr-Latn-CS" sz="2800" spc="-1" strike="noStrike">
                <a:solidFill>
                  <a:srgbClr val="0d0a1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ачк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олеранциј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60º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4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ГЛ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рапиј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рис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ас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ласт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ли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р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жут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бо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адрж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есак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име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ли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итн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осеја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роз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ит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ли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опл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адрж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10%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атрију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лорид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еш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к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би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ласт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ас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гре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ен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упатил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имењу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ид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мператур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38-40º</a:t>
            </a:r>
            <a:r>
              <a:rPr b="1" lang="sr-Latn-CS" sz="2800" spc="-1" strike="noStrike">
                <a:solidFill>
                  <a:srgbClr val="0d0a1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рајањ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Физичк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величин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везан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топло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ред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инетичк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енерг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леку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то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д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псолут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у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-273,15º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т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д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вис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ред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рзи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ета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леку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то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Индиферент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–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ој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рганиза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акт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ни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едијум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јм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и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нос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јм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а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ваздух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22º</a:t>
            </a:r>
            <a:r>
              <a:rPr b="1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вод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a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34-36 </a:t>
            </a:r>
            <a:r>
              <a:rPr b="1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пелоид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38-39º</a:t>
            </a:r>
            <a:r>
              <a:rPr b="1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 54º</a:t>
            </a:r>
            <a:r>
              <a:rPr b="1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5.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ПСАМО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лечењ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агрејани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еско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есак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огодан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бог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вој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d0a10"/>
                </a:solidFill>
                <a:latin typeface="Calibri"/>
              </a:rPr>
              <a:t>хигроскопност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–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брз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пиј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ној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могућав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одужен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нојењ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добр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однос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имењуј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блик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локалних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пштих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темп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45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 50º</a:t>
            </a:r>
            <a:r>
              <a:rPr b="1" lang="sr-Latn-CS" sz="2800" spc="-1" strike="noStrike">
                <a:solidFill>
                  <a:srgbClr val="0d0a10"/>
                </a:solidFill>
                <a:latin typeface="Calibri"/>
              </a:rPr>
              <a:t>C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трајањ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30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орист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d0a10"/>
                </a:solidFill>
                <a:latin typeface="Calibri"/>
              </a:rPr>
              <a:t>прочишћени</a:t>
            </a:r>
            <a:r>
              <a:rPr b="1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d0a10"/>
                </a:solidFill>
                <a:latin typeface="Calibri"/>
              </a:rPr>
              <a:t>ситнозрнасти</a:t>
            </a:r>
            <a:r>
              <a:rPr b="1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d0a10"/>
                </a:solidFill>
                <a:latin typeface="Calibri"/>
              </a:rPr>
              <a:t>песак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агрев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литки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метални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удовим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пецијални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ређајим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имењуј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дрвени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андуцим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Лет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агрев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унц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орист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лажам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омбинациј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хелиотерпијо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4290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6.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САУ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881520" cy="3827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14800" y="685440"/>
            <a:ext cx="5029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вишекратна</a:t>
            </a:r>
            <a:r>
              <a:rPr b="1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ваздушна</a:t>
            </a:r>
            <a:r>
              <a:rPr b="1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купк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ув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аздух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лед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хидротерапијск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цед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хлад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ферет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о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ид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пшт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уп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лива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уш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ишекрат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им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двофазног</a:t>
            </a:r>
            <a:r>
              <a:rPr b="1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надража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грева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хлађе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еколик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вра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рав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5-20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сториј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ој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степе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азв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ув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(60º-110º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Физиолошко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Терморегулациони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механиз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емп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раст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40º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праћено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интензивним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знојењем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знос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39º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благ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ипертерми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).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ок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оцедур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злуч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400-80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200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л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зно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КВ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сист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ад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ијастолног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итиск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убрзањ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улс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време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хлађе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лаз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мање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фреквен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улс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ијастолног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итиск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чем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реб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одит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рачу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ипертенз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вазомоторни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тренинг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вод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регула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итиск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улс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мање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фреквен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ис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Бубре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ма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регулациј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функ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бубрег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етаболизм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Кожа</a:t>
            </a:r>
            <a:r>
              <a:rPr b="1" lang="sr-Latn-C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и</a:t>
            </a:r>
            <a:r>
              <a:rPr b="1" lang="sr-Latn-C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имуните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вод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бољш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функ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акн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тпорност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ем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нфекцијам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Индикације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за сауну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су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мање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азомотор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акц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рашћива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а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соријаз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паљењс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егенератив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уматич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боље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паље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спираторног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парат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нгиопати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(I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II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тадију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паљењс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еспециф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инеколош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боље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Контраиндикације за сауну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кут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паље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екомпензац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италних орга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angina pectoris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4-6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есеци посл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нфаркт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рц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ж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блиц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ипертензи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већан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тпор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лућн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рвоток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трал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теноз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егетатив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абилност,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ипертиреоз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лкус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ентрикул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–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уоден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ум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/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алигн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оцес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дроколоратор паков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абрички упакован гел ставња се у памучне врећице у обику јастучи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рева се у специјалним  судовима напуњеним водом (24 сата да би постао извор топл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мотава се у вишеструко савијене убрусе и апликује 20-30 мину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Индикације</a:t>
            </a:r>
            <a:r>
              <a:rPr b="0" lang="en-US" sz="4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за</a:t>
            </a:r>
            <a:r>
              <a:rPr b="0" lang="en-US" sz="4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термотерапију</a:t>
            </a:r>
            <a:r>
              <a:rPr b="0" lang="en-US" sz="4400" spc="-1" strike="noStrike" u="sng">
                <a:solidFill>
                  <a:srgbClr val="0d0a10"/>
                </a:solidFill>
                <a:uFillTx/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запаљењск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Latn-CS" sz="2100" spc="-1" strike="noStrike">
                <a:solidFill>
                  <a:srgbClr val="0d0a10"/>
                </a:solidFill>
                <a:latin typeface="Calibri"/>
              </a:rPr>
              <a:t>RA,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Latn-CS" sz="2100" spc="-1" strike="noStrike">
                <a:solidFill>
                  <a:srgbClr val="0d0a10"/>
                </a:solidFill>
                <a:latin typeface="Calibri"/>
              </a:rPr>
              <a:t>Bechtere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w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.)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дегенеративн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артроз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спондилоз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)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ванзглобн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ентезитис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тендинитис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миофиброзитис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бурзитис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.)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реуматичк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обољењ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стања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повреда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меких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бар 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48-72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сат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повред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неспецифична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запаљењ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синуситис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хроничн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отитис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гинеколошка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запаљењ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нфилтрат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хируршких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нтервенциј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фурункулоз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друг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нфециј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кож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.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болови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локомоторног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апарат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уколико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нису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проузрокован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акутни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запаљење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артеријско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оклузијо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малигни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процесо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неруролошка: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оштећења периферних нерава.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 u="sng">
                <a:solidFill>
                  <a:srgbClr val="0d0a10"/>
                </a:solidFill>
                <a:uFillTx/>
                <a:latin typeface="Calibri"/>
              </a:rPr>
              <a:t>Контраиндикације</a:t>
            </a:r>
            <a:r>
              <a:rPr b="0" lang="en-US" sz="4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4000" spc="-1" strike="noStrike" u="sng">
                <a:solidFill>
                  <a:srgbClr val="0d0a10"/>
                </a:solidFill>
                <a:uFillTx/>
                <a:latin typeface="Calibri"/>
              </a:rPr>
              <a:t>з</a:t>
            </a:r>
            <a:r>
              <a:rPr b="0" lang="en-US" sz="4000" spc="-1" strike="noStrike" u="sng">
                <a:solidFill>
                  <a:srgbClr val="0d0a10"/>
                </a:solidFill>
                <a:uFillTx/>
                <a:latin typeface="Calibri"/>
              </a:rPr>
              <a:t>a</a:t>
            </a:r>
            <a:r>
              <a:rPr b="0" lang="sr-CS" sz="4000" spc="-1" strike="noStrike" u="sng">
                <a:solidFill>
                  <a:srgbClr val="0d0a10"/>
                </a:solidFill>
                <a:uFillTx/>
                <a:latin typeface="Calibri"/>
              </a:rPr>
              <a:t> термотерапиј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Малигн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тумор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Акутн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апаљењск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оцес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Фебрилн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та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Менструа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клузивн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артеријск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боље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Туберкулоз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Декомпензациј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рц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лућа,бубрега,јетре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зражен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хипертиреоз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рварењ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клоност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рварењ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Нарушен интегритет коже на месту приме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Мултипла склероз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елативне контраиндикације за термо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јабете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удно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 периферне циркул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 сензибилитета за термичке драж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 св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Б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) 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К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Р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О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Т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Е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Р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П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Ј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криотерапиј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дразуме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ниже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окал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мператур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ејств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рапијс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врх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реб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азликова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хипотерми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дразуме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ниже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пшт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лес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мператур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Физичк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величин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везан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топло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120" y="144792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ачк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леранц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–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ксимал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рганиза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дне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ез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сећа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од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45 º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елоид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45-50º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есак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              52º 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70º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аздух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100º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плотни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капацитет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лич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раж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лорија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треб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1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цм</a:t>
            </a:r>
            <a:r>
              <a:rPr b="0" lang="sr-Latn-CS" sz="2400" spc="-1" strike="noStrike" u="sng">
                <a:solidFill>
                  <a:srgbClr val="0d0a10"/>
                </a:solidFill>
                <a:uFillTx/>
                <a:latin typeface="Calibri"/>
              </a:rPr>
              <a:t>3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упстанц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гре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1º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пецифична топло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4582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Физиолошко</a:t>
            </a:r>
            <a:r>
              <a:rPr b="0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0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криотерап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окалн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ћелиј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: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43880" indent="-447840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мање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ктивност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ензи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43880" indent="-447840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нижен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етаболиза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ервн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рецептор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ож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ткожн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кив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шић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43880" indent="-447840" algn="just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ензитивн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рецептор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хладноћ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раузео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лашц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) –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имулациј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нзитивн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ор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ачањ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пштег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онус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рган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43880" indent="-447840" algn="just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импатичк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нервн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лакн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–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импатикотонички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анифестуј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азоконстрикцијом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рвних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удов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43880" indent="-447840" algn="just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ензитивн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роприорецептор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ишићи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еуромишић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ретен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мањуј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онус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гам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оторних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еурон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гам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пастичност,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в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онус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лф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оторних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еурон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онус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стинактивитетн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хипотониј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келетн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ускулату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43880" indent="-447840" algn="just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Рецептор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–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налгетс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1" lang="sr-Latn-C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1" lang="sr-Latn-C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кож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Локално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кож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ест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елов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услед</a:t>
            </a:r>
            <a:r>
              <a:rPr b="0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надражаја</a:t>
            </a:r>
            <a:r>
              <a:rPr b="0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симпатикус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лаз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вазоконстрик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аћен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бледилом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нижењем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локалн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емператур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сећајем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ток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нфлама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аналгез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раткотрајног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елов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ж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четн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азоконстрикције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секундарно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јавља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вазодилатаци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соб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артериосклерозом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,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дијабетом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или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ангио</a:t>
            </a:r>
            <a:r>
              <a:rPr b="1" lang="sr-Latn-C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спастичним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Latn-C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обољењим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д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ејством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ћ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парадоксалне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реакције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крвних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судов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Јављ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имар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азоконстрикци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зоста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екундар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азодилатација. Уколик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надражај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у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ћ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штеће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мишићни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сист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мишићни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ист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ак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у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нус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астичн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гама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спастичнос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есник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оштећењем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горњег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моторног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неурона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аз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ста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заштитна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реакција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мишића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услед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бо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зв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алфа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спастичност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лаз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е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ну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ећ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езнат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ећа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в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астичност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ну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инактивитетне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атрофије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ста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у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мобилизац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ровања,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иотерап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ољ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ећ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наг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држљивост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о увод 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инезитерапи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Аналгетски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ефека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окал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асхлађе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јвиш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сетљ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А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-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делта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влак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провод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брз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мај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исок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аг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надража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А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-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гама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влак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живчавај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неуромишић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рете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Механизам</a:t>
            </a:r>
            <a:r>
              <a:rPr b="1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аналге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ед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у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слобађ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упстанц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ндуку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у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дукци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ецепто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ервн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лака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ај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чи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у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рзин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честалос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н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мпул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локира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лаз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мпул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дњи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огови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ичме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жди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/ил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ећава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дукци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ендоген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пиоида 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gat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control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шић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аз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ки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чара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уг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: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аза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Техника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Локалн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пак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Имерзиј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(2-3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, 5-6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пут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Криомасаж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субјективни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осећај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жарењ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Лако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испарљиве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те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Crio cuff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метод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(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48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сати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Хладн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a10"/>
                </a:solidFill>
                <a:latin typeface="Calibri"/>
              </a:rPr>
              <a:t>1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Локална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паков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-5227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Паковања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са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пешкиром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Потапање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пешкира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хладну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вод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егмент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трај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око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30-60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сец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ауз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неколико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минут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онављ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3-5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ут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Latn-C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роцедур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трај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25-30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Потапање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пешкира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слану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вод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сцед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вишеструко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ресавиј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увуч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ластичн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кес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тав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замрзивач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адржај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ол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обезбеђуј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авитљивост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ешкир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након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вађењ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з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замрзивач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његов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лакш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апликациј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делов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екстремитет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Кесе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са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ледом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Комадић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лед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тављај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ластичн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кес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реко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ешкир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остављ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фиксир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одговарајућ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део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кес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ле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ankle_30"/>
          <p:cNvPicPr/>
          <p:nvPr/>
        </p:nvPicPr>
        <p:blipFill>
          <a:blip r:embed="rId1"/>
          <a:stretch/>
        </p:blipFill>
        <p:spPr>
          <a:xfrm>
            <a:off x="2057400" y="1523880"/>
            <a:ext cx="4876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a10"/>
                </a:solidFill>
                <a:latin typeface="Calibri"/>
              </a:rPr>
              <a:t>2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Имер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тапа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исталних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ело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екстремитет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ша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топал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еден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б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тављање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мадић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ед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мерз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ра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30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ц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уз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30-60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ц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оцедур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нављ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4-6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ут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5" descr="Kontrasne kupke"/>
          <p:cNvPicPr/>
          <p:nvPr/>
        </p:nvPicPr>
        <p:blipFill>
          <a:blip r:embed="rId1"/>
          <a:stretch/>
        </p:blipFill>
        <p:spPr>
          <a:xfrm>
            <a:off x="5791320" y="2133720"/>
            <a:ext cx="314316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a10"/>
                </a:solidFill>
                <a:latin typeface="Calibri"/>
              </a:rPr>
              <a:t>3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Криомаса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сажа</a:t>
            </a:r>
            <a:r>
              <a:rPr b="0" lang="en-GB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гмента</a:t>
            </a:r>
            <a:r>
              <a:rPr b="0" lang="en-GB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GB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едом</a:t>
            </a:r>
            <a:r>
              <a:rPr b="0" lang="en-GB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ластичну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чашу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огурт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лиј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од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ави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шпатул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в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о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ави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мрзивач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.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кон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ремен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требног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варањ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ед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ластичн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чаш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едом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ављ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д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лаз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од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ако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и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ед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акш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звадио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ницијал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азоконстрикц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ступ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латац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вн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удо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з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пријатан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осећај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топлот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иомасаж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рист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в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руг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физијатријс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цеду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вег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ежбе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7" descr="DSC02502"/>
          <p:cNvPicPr/>
          <p:nvPr/>
        </p:nvPicPr>
        <p:blipFill>
          <a:blip r:embed="rId1"/>
          <a:stretch/>
        </p:blipFill>
        <p:spPr>
          <a:xfrm>
            <a:off x="6172200" y="1066680"/>
            <a:ext cx="2971800" cy="2719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DSC02504"/>
          <p:cNvPicPr/>
          <p:nvPr/>
        </p:nvPicPr>
        <p:blipFill>
          <a:blip r:embed="rId2"/>
          <a:stretch/>
        </p:blipFill>
        <p:spPr>
          <a:xfrm>
            <a:off x="5791320" y="4038480"/>
            <a:ext cx="3352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4.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Лако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испарљиве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теч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Фармацеутск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роизвод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 u="sng">
                <a:solidFill>
                  <a:srgbClr val="0d0a10"/>
                </a:solidFill>
                <a:uFillTx/>
                <a:latin typeface="Calibri"/>
              </a:rPr>
              <a:t>у</a:t>
            </a:r>
            <a:r>
              <a:rPr b="0" lang="en-US" sz="3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3200" spc="-1" strike="noStrike" u="sng">
                <a:solidFill>
                  <a:srgbClr val="0d0a10"/>
                </a:solidFill>
                <a:uFillTx/>
                <a:latin typeface="Calibri"/>
              </a:rPr>
              <a:t>виду</a:t>
            </a:r>
            <a:r>
              <a:rPr b="0" lang="en-US" sz="3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3200" spc="-1" strike="noStrike" u="sng">
                <a:solidFill>
                  <a:srgbClr val="0d0a10"/>
                </a:solidFill>
                <a:uFillTx/>
                <a:latin typeface="Calibri"/>
              </a:rPr>
              <a:t>спреј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chlor ethyl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.)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овод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локалног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хлађењ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Најчешћ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орист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портским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ереним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акутних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овред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портист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Физичке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карактеристика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преносиоца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користе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физикалној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медицин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Велики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топлотни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капацит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Мал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топлотн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проводљив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Висок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индиферентн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темпера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Висок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тачк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толеран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a10"/>
                </a:solidFill>
                <a:latin typeface="Calibri"/>
              </a:rPr>
              <a:t>5. Cryo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cuff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метода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аврем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етода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ист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за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хлађење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и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компреси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рмоизолацио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ејнер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преми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к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4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и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од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ед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вољ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8-10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 терап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Гумено црево</a:t>
            </a:r>
            <a:r>
              <a:rPr b="1" lang="sr-Latn-CS" sz="2400" spc="-1" strike="noStrike">
                <a:solidFill>
                  <a:srgbClr val="0d0a1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енти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нже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ставља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к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во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диза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ејне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птимал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27-33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ист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нжет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вод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вазоконстрикције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и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компрес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Cryo cuff meto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6" descr="Krio%20kuf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a10"/>
                </a:solidFill>
                <a:latin typeface="Calibri"/>
              </a:rPr>
              <a:t>7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Хладна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в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75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директно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из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славин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т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=10-12º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трајању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5-10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,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так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де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екстремитет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остав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испод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млаз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вод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Ов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онављ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виш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ут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аузам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којим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извод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активн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вежб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роцедур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осебн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репоручуј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код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пацијената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са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спастичношћу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75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75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виду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општих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купк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ок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27º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(10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),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успешн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корист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код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пацијената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са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МС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јер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довод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мањењ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пастичност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олакшав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извођењ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активних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вежб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Врем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трајањ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роцедур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остепен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родужав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Индикације</a:t>
            </a:r>
            <a:r>
              <a:rPr b="0" lang="sr-Latn-CS" sz="4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за</a:t>
            </a:r>
            <a:r>
              <a:rPr b="0" lang="sr-Latn-CS" sz="4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крио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Акут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инфламациј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ток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црвенил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иш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окал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гранич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функц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М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пар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паљењ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еуматиза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кутн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тадијум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ве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ред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ек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уз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сторз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стенз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цијал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упту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т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пастично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повишен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нус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игидит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Бол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тањ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ЛМ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парат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увод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кинезитерап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 u="sng">
                <a:solidFill>
                  <a:srgbClr val="0d0a10"/>
                </a:solidFill>
                <a:uFillTx/>
                <a:latin typeface="Calibri"/>
              </a:rPr>
              <a:t>Контраиндикације     за криотерапиј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15235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ж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штеће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циркулаци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ериферни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ртеријам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штеће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нзибилитет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омрзли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лерг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ладноћ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Mb Burger,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arterioskleroza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 (опструкција)</a:t>
            </a: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Mb Rauna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u</a:t>
            </a: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yd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 (вазоспаза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ериферни нерви у току регенер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ево раме код коронарне боле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животн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б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зна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7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тарос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латив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нтраиндикац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,узнемиреност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изици криопроцед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пределу главице фибуле и у пределу лакта  могу да изазову реверзибилну нервну блока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дозирана доводи до промрзлина и некрозе тк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Пренос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те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ДУ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ректни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акт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рганиз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греја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лаз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ије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хладн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рз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вис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азли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ец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водљивост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рапијс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цеду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: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цреп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циг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електрич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астуч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елои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есак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АДИЈ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нос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електромагнетни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раче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Р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рац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ректн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акт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вор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В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к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едију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лаз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тањ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етања (вода или вазду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им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в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етод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греја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аздух</a:t>
            </a:r>
            <a:r>
              <a:rPr b="0" lang="en-US" sz="2400" spc="-1" strike="noStrike">
                <a:solidFill>
                  <a:srgbClr val="0d0a1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примењује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два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модалитета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20570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Као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површинска (егзогена)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−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елои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уп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хидроколатор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кова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флуидотерап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Ц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рац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1 цм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Као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дубинска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(ендогена)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–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уг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ат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алас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кроталас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ршинск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ди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убљ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ткож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с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рмич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олатор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убинск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дире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убље 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ткож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с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77560"/>
            <a:ext cx="8382240" cy="12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Топла диферентна з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238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арафин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елоид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арафанг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Г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сам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ау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ИР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зра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раткоталасна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ијатермија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ТД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Хидроколоратор пак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Физиолошко</a:t>
            </a:r>
            <a:r>
              <a:rPr b="0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0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7621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крвне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судове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азодилатација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ипа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активне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хиперемије (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Dastre Morat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 зако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нервни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систем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аналгетс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едативно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већањем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брзин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роводљивости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ериферних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нер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мишић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одсуством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контракциј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опуштањем (алфа спастичнос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везивно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тки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већав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еластичност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езивног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метабол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убрзањем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хемијских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реакциј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им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већањем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етаболизм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ср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Локалн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н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утич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значајниј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рад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рц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Општ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роцедур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кој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дижу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елесну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емпературу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1º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убрзавају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рчани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рад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откуцај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већавају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инутни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олумен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раст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7:00:35Z</dcterms:created>
  <dc:creator>Veljkovic Miodrag</dc:creator>
  <dc:description/>
  <dc:language>en-US</dc:language>
  <cp:lastModifiedBy>Info</cp:lastModifiedBy>
  <dcterms:modified xsi:type="dcterms:W3CDTF">2018-09-13T07:49:27Z</dcterms:modified>
  <cp:revision>87</cp:revision>
  <dc:subject/>
  <dc:title>Slide 1</dc:title>
</cp:coreProperties>
</file>